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B208F-8D7B-4E24-A6AA-A64A24750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FE5A9-6476-4A88-89E5-FCC24522A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7191D-D422-4DBA-BAFB-A80D6D806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2A9AB-F8E5-4150-ADC3-33E5875DA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39A674-7C68-4D87-A2CD-9C032C964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A49DA-07BE-4C5B-9A46-4AFEBA71B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380C4-5533-48F8-AE19-810915F19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0196F-55C2-42E9-ACC6-72D80D017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2820A-AE1C-4A3B-BAA7-2C8CC5EA7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FC71F-5477-466B-94E8-0A013BE90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03565-8DE7-45C5-8B63-A1BF63070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67035-30B8-4B34-B454-74D2FA94C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8DEFE-71A8-4F60-ACE8-94942F457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3DDB5-369E-416E-A96B-3B9AB39B6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02643-D718-4505-9385-7F0A12619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B8A7A9-5CA2-4EA2-A78F-FA0248A7F2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262F1F-CA4B-4A9C-9C17-4FC8EA75F1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93707E-E608-451D-B792-A1992953D9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6B1950-2FE9-4A10-9D8F-F4E2C029C5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EA90B7-2202-429C-8C1A-8F03C1D082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F4E608-27EF-4393-A236-5A34C7DE72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A81BCA-8518-48B8-BE2D-6199788527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A006B-251E-4DBB-AC2F-340ACD8E2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2922FA-A0C0-4E70-B96E-03F26478DC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934A5B-21E4-4EB9-8750-EDF9D14824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23BE82-670A-41BF-96DC-6DEC622C34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BB9DEA-306A-4EF6-9028-B3A44B6041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CA94EB-7D5A-4B3F-8C79-7740D73730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FC33BF-8D59-42B4-AA9E-7C419F3D74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B27FB2-91AF-44E0-8D3B-C83BD9C542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F387A1-2132-4BBE-AA26-B62468B163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4FCB0B-F68B-4C0A-8B72-EA916DA013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555112-8BB5-4404-BD58-20BB1E99AF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52A3E-1A35-4A93-9FFF-71F50A845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D9F941-51D2-4420-A01B-9CEBCAA8B7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DFCD22-7355-4E35-A944-84AB34A021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347265-D977-4DE6-9059-F721728DA7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786862-A003-430B-83E2-3B7E7AF5C0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961622-6129-47DE-9FC1-33202DA4B3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EA0AD7-57D6-4DF3-A186-A944FB945F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BFA5CF-13AD-414D-9EEE-5059487752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C70E92-9F53-4B4F-B1D3-F2E70C285E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B7E39A-5139-48BA-8228-1094A06CA6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DF5489-6A69-4369-81C3-DDE9F6EA07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70C39-59F2-41CD-B20B-40B1A2AB3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5CE4AB-8B61-4CB8-9492-E1A048172E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C4EC6A-E8D6-4431-A3E7-1F33402326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AEF9F3-D915-4FBE-9E7C-73165B742E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3F9CE9-F6F2-43ED-B9D4-410DD333BD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DE069F-0445-4D18-B0C6-EDB960DEEE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65CD7D-8ECC-4F69-9557-AE87016C20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5528C8-E19B-411E-953F-9A8F2549E6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BCF629-5E57-460C-B13A-AC7E8EE908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B6C9CA-F2D1-47EF-B310-426CF70D77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A7408A-95EB-4EAD-B3BD-10DFC43442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965D6-2CEF-40FC-B0DA-A990BFD62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0D871B-1275-4268-B72F-B062500C28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BE3558-35F0-4E24-B44E-6061D11D1F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6C25E4-F811-47CA-B8AF-F5E1B7EDC3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576430-6117-44AF-9313-C1C031B2E7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65C3EE-A198-40BA-967A-EE51B8CC85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DA86A4-619E-4F8C-A1BC-BB8BCBF2E9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1F7F67-ED8A-4B46-9202-51BCC9FED5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CAF909-C05E-408F-A6DB-9B8695853D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262059-157C-4494-92E5-8F4C1547B0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1CC12C-5B8E-49E4-B08A-41E8CC3A0B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7E3B3-D54C-4587-9409-95651EE13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9AFAC2-8CE8-4163-A89B-3760CDFDE3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B239CC-488C-4FD3-9928-180805CDF7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773D78-B334-4234-BAFA-73FA8FDA15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F4D044-5389-4D2A-82F2-CE16BE2249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B1CFD9-32F0-46D7-A6B0-89161DEE61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60060D-6716-4BB6-94AC-10BD394B9C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CDB005-F8FB-4C85-96E9-E0772F33F6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17472E-60E1-414B-AC8D-079F9E4222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DBBC71-0AE1-4A68-BF36-D6F40CD483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E3585C-6978-472C-ABDB-7CE0759D1D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DB203-01B3-4504-929C-D610C3F10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8683B0-7E75-4E5F-91EF-E64763D500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4A5189-21D1-4E90-860B-0229B15327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DC19EB-8F69-4911-81F8-145C83E3A5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E6CC6E-4BF2-478A-81DD-6468FE28DD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09F624-09EE-42A8-9E33-C094B85EC7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95C4C-31E4-4179-BB9B-BB699B4AB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600FB-C7F3-44EB-857C-F457C463522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169A3-CA6C-4BB2-950E-17F9634F1A1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BA71-7B6F-4D91-A84B-D02C28CF7EC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1A84B-6F0E-46AC-BF42-80B7B440B31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A5A09-0A09-49BE-9428-D2F2D13B7CD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7AD47-12CB-4607-AD59-F71555010D4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AE03-33F9-40F7-AED6-5D5CCEAEDF5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433440" y="347760"/>
            <a:ext cx="8265960" cy="1981080"/>
          </a:xfrm>
          <a:prstGeom prst="rect">
            <a:avLst/>
          </a:prstGeom>
          <a:ln w="0">
            <a:noFill/>
          </a:ln>
        </p:spPr>
      </p:pic>
      <p:sp>
        <p:nvSpPr>
          <p:cNvPr id="369" name="PlaceHolder 1"/>
          <p:cNvSpPr>
            <a:spLocks noGrp="1"/>
          </p:cNvSpPr>
          <p:nvPr>
            <p:ph type="subTitle"/>
          </p:nvPr>
        </p:nvSpPr>
        <p:spPr>
          <a:xfrm>
            <a:off x="914040" y="2819520"/>
            <a:ext cx="8001000" cy="1371600"/>
          </a:xfrm>
          <a:prstGeom prst="rect">
            <a:avLst/>
          </a:prstGeom>
          <a:noFill/>
          <a:ln w="0">
            <a:noFill/>
          </a:ln>
        </p:spPr>
        <p:txBody>
          <a:bodyPr lIns="100440" rIns="900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a:rPr>
              <a:t>Chapter 3 :</a:t>
            </a:r>
            <a:endParaRPr b="0" lang="en-US" sz="3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a:rPr>
              <a:t>Why teach financial literacy</a:t>
            </a:r>
            <a:endParaRPr b="0" lang="en-US" sz="3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a:rPr>
              <a:t>By Kowsar, Prya, Juan and Paulina</a:t>
            </a:r>
            <a:endParaRPr b="0" lang="en-US" sz="3600" spc="-1" strike="noStrike">
              <a:solidFill>
                <a:srgbClr val="ffffff"/>
              </a:solidFill>
              <a:latin typeface="Corbel"/>
            </a:endParaRPr>
          </a:p>
        </p:txBody>
      </p:sp>
      <p:sp>
        <p:nvSpPr>
          <p:cNvPr id="370" name=""/>
          <p:cNvSpPr/>
          <p:nvPr/>
        </p:nvSpPr>
        <p:spPr>
          <a:xfrm>
            <a:off x="3139920" y="60372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71" name=""/>
          <p:cNvSpPr/>
          <p:nvPr/>
        </p:nvSpPr>
        <p:spPr>
          <a:xfrm>
            <a:off x="4050360" y="6383160"/>
            <a:ext cx="43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1eeff"/>
                </a:solidFill>
                <a:latin typeface="comic"/>
              </a:rPr>
              <a:t>Antiquated school system</a:t>
            </a:r>
            <a:endParaRPr b="0" lang="en-US" sz="3000" spc="-1" strike="noStrike">
              <a:solidFill>
                <a:srgbClr val="c1eeff"/>
              </a:solidFill>
              <a:latin typeface="Consolas"/>
            </a:endParaRPr>
          </a:p>
        </p:txBody>
      </p:sp>
      <p:sp>
        <p:nvSpPr>
          <p:cNvPr id="373" name=""/>
          <p:cNvSpPr txBox="1"/>
          <p:nvPr/>
        </p:nvSpPr>
        <p:spPr>
          <a:xfrm>
            <a:off x="914400" y="129528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he rich becomes richer and the poor becomes poorer because of our antiquated school system fails to provide young people with basic financial skills rich people use to grow their wealth. </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he system trains people to be good employees, and not employers.</a:t>
            </a:r>
            <a:br>
              <a:rPr sz="2600"/>
            </a:br>
            <a:r>
              <a:rPr b="0" lang="en-US" sz="2600" spc="-1" strike="noStrike">
                <a:solidFill>
                  <a:srgbClr val="ffffff"/>
                </a:solidFill>
                <a:latin typeface="Corbel"/>
              </a:rPr>
              <a:t> </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90720" y="38088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1eeff"/>
                </a:solidFill>
                <a:latin typeface="comic"/>
              </a:rPr>
              <a:t>We need financial literacy to get out of the “Rat Race”!!</a:t>
            </a:r>
            <a:endParaRPr b="0" lang="en-US" sz="3000" spc="-1" strike="noStrike">
              <a:solidFill>
                <a:srgbClr val="c1eeff"/>
              </a:solidFill>
              <a:latin typeface="Consolas"/>
            </a:endParaRPr>
          </a:p>
        </p:txBody>
      </p:sp>
      <p:sp>
        <p:nvSpPr>
          <p:cNvPr id="375" name=""/>
          <p:cNvSpPr txBox="1"/>
          <p:nvPr/>
        </p:nvSpPr>
        <p:spPr>
          <a:xfrm>
            <a:off x="914400" y="1600200"/>
            <a:ext cx="7772400" cy="4572000"/>
          </a:xfrm>
          <a:prstGeom prst="rect">
            <a:avLst/>
          </a:prstGeom>
          <a:noFill/>
          <a:ln w="0">
            <a:noFill/>
          </a:ln>
        </p:spPr>
        <p:txBody>
          <a:bodyPr lIns="90000" rIns="90000" tIns="46800" bIns="46800" anchor="t">
            <a:normAutofit fontScale="97000"/>
          </a:bodyPr>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If you want to be rich, you need to be financially literate, in words as well as numbers.</a:t>
            </a:r>
            <a:endParaRPr b="0" lang="en-US" sz="2600" spc="-1" strike="noStrike">
              <a:solidFill>
                <a:srgbClr val="ffffff"/>
              </a:solidFill>
              <a:latin typeface="Corbel"/>
            </a:endParaRPr>
          </a:p>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 </a:t>
            </a:r>
            <a:r>
              <a:rPr b="0" lang="en-US" sz="2600" spc="-1" strike="noStrike">
                <a:solidFill>
                  <a:srgbClr val="ffffff"/>
                </a:solidFill>
                <a:latin typeface="Corbel"/>
              </a:rPr>
              <a:t>People can be highly educated and professionally successful , but </a:t>
            </a:r>
            <a:r>
              <a:rPr b="0" lang="en-US" sz="2600" spc="-1" strike="noStrike">
                <a:solidFill>
                  <a:srgbClr val="002060"/>
                </a:solidFill>
                <a:latin typeface="Corbel"/>
              </a:rPr>
              <a:t>financially illiterate</a:t>
            </a:r>
            <a:r>
              <a:rPr b="0" lang="en-US" sz="2600" spc="-1" strike="noStrike">
                <a:solidFill>
                  <a:srgbClr val="ffffff"/>
                </a:solidFill>
                <a:latin typeface="Corbel"/>
              </a:rPr>
              <a:t>. Such people often work harder than they need to because they learned how to work hard, but not how to have their money work for them. </a:t>
            </a:r>
            <a:endParaRPr b="0" lang="en-US" sz="2600" spc="-1" strike="noStrike">
              <a:solidFill>
                <a:srgbClr val="ffffff"/>
              </a:solidFill>
              <a:latin typeface="Corbel"/>
            </a:endParaRPr>
          </a:p>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In an age of instant millionaires it really isn’t about how much money you make, it’s about how much you keep, and how many generations you can keep it. </a:t>
            </a:r>
            <a:endParaRPr b="0" lang="en-US" sz="2600" spc="-1" strike="noStrike">
              <a:solidFill>
                <a:srgbClr val="ffffff"/>
              </a:solidFill>
              <a:latin typeface="Corbel"/>
            </a:endParaRPr>
          </a:p>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90720" y="304920"/>
            <a:ext cx="777240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1eeff"/>
                </a:solidFill>
                <a:latin typeface="comic"/>
              </a:rPr>
              <a:t>Difference between assets and liabilities</a:t>
            </a:r>
            <a:endParaRPr b="0" lang="en-US" sz="3000" spc="-1" strike="noStrike">
              <a:solidFill>
                <a:srgbClr val="c1eeff"/>
              </a:solidFill>
              <a:latin typeface="Consolas"/>
            </a:endParaRPr>
          </a:p>
        </p:txBody>
      </p:sp>
      <p:sp>
        <p:nvSpPr>
          <p:cNvPr id="377" name=""/>
          <p:cNvSpPr txBox="1"/>
          <p:nvPr/>
        </p:nvSpPr>
        <p:spPr>
          <a:xfrm>
            <a:off x="914400" y="129528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Assets: . An asset is something that puts money in my pocket.</a:t>
            </a:r>
            <a:endParaRPr b="0" lang="en-US" sz="2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Liabilities: . A liability is something that takes money out of my pocket. </a:t>
            </a:r>
            <a:endParaRPr b="0" lang="en-US" sz="2600" spc="-1" strike="noStrike">
              <a:solidFill>
                <a:srgbClr val="ffffff"/>
              </a:solidFill>
              <a:latin typeface="Corbel"/>
            </a:endParaRPr>
          </a:p>
        </p:txBody>
      </p:sp>
      <p:graphicFrame>
        <p:nvGraphicFramePr>
          <p:cNvPr id="378" name=""/>
          <p:cNvGraphicFramePr/>
          <p:nvPr/>
        </p:nvGraphicFramePr>
        <p:xfrm>
          <a:off x="1447920" y="3352680"/>
          <a:ext cx="6400800" cy="2057400"/>
        </p:xfrm>
        <a:graphic>
          <a:graphicData uri="http://schemas.openxmlformats.org/drawingml/2006/table">
            <a:tbl>
              <a:tblPr/>
              <a:tblGrid>
                <a:gridCol w="3200400"/>
                <a:gridCol w="3200400"/>
              </a:tblGrid>
              <a:tr h="514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Assets </a:t>
                      </a:r>
                      <a:endParaRPr b="0" lang="en-US" sz="20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Liabilities</a:t>
                      </a:r>
                      <a:endParaRPr b="0" lang="en-US" sz="20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514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Real Estates</a:t>
                      </a:r>
                      <a:endParaRPr b="0" lang="en-US" sz="2000" spc="-1" strike="noStrike">
                        <a:solidFill>
                          <a:srgbClr val="ffffff"/>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ortgages</a:t>
                      </a:r>
                      <a:endParaRPr b="0" lang="en-US" sz="2000" spc="-1" strike="noStrike">
                        <a:solidFill>
                          <a:srgbClr val="ffffff"/>
                        </a:solidFill>
                        <a:latin typeface="Corbe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514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tokes</a:t>
                      </a:r>
                      <a:endParaRPr b="0" lang="en-US" sz="20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Consumer Loans</a:t>
                      </a:r>
                      <a:endParaRPr b="0" lang="en-US" sz="20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514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Bonds</a:t>
                      </a:r>
                      <a:endParaRPr b="0" lang="en-US" sz="20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Credit Cards</a:t>
                      </a:r>
                      <a:endParaRPr b="0" lang="en-US" sz="2000" spc="-1" strike="noStrike">
                        <a:solidFill>
                          <a:srgbClr val="ffffff"/>
                        </a:solidFill>
                        <a:latin typeface="Corbe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1eeff"/>
                </a:solidFill>
                <a:latin typeface="comic"/>
              </a:rPr>
              <a:t>Rules for becoming “Rich”</a:t>
            </a:r>
            <a:endParaRPr b="0" lang="en-US" sz="3000" spc="-1" strike="noStrike">
              <a:solidFill>
                <a:srgbClr val="c1eeff"/>
              </a:solidFill>
              <a:latin typeface="Consolas"/>
            </a:endParaRPr>
          </a:p>
        </p:txBody>
      </p:sp>
      <p:sp>
        <p:nvSpPr>
          <p:cNvPr id="380" name=""/>
          <p:cNvSpPr txBox="1"/>
          <p:nvPr/>
        </p:nvSpPr>
        <p:spPr>
          <a:xfrm>
            <a:off x="914400" y="1752480"/>
            <a:ext cx="7772400" cy="4572000"/>
          </a:xfrm>
          <a:prstGeom prst="rect">
            <a:avLst/>
          </a:prstGeom>
          <a:noFill/>
          <a:ln w="0">
            <a:noFill/>
          </a:ln>
        </p:spPr>
        <p:txBody>
          <a:bodyPr lIns="90000" rIns="90000" tIns="46800" bIns="46800" anchor="t">
            <a:normAutofit/>
          </a:bodyPr>
          <a:p>
            <a:pPr marL="582480" indent="-51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 </a:t>
            </a:r>
            <a:r>
              <a:rPr b="1" lang="en-US" sz="2600" spc="-1" strike="noStrike">
                <a:solidFill>
                  <a:srgbClr val="002060"/>
                </a:solidFill>
                <a:latin typeface="Corbel"/>
              </a:rPr>
              <a:t>You must know the difference between an asset and a liability to get rich.</a:t>
            </a:r>
            <a:endParaRPr b="0" lang="en-US" sz="2600" spc="-1" strike="noStrike">
              <a:solidFill>
                <a:srgbClr val="ffffff"/>
              </a:solidFill>
              <a:latin typeface="Corbel"/>
            </a:endParaRPr>
          </a:p>
          <a:p>
            <a:pPr marL="582480" indent="-514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 </a:t>
            </a:r>
            <a:r>
              <a:rPr b="0" lang="en-US" sz="2600" spc="-1" strike="noStrike">
                <a:solidFill>
                  <a:srgbClr val="ffffff"/>
                </a:solidFill>
                <a:latin typeface="Corbel"/>
              </a:rPr>
              <a:t>Rich people acquire assets. The poor and middle class acquire liabilities, but they think they are assets. </a:t>
            </a:r>
            <a:endParaRPr b="0" lang="en-US" sz="2600" spc="-1" strike="noStrike">
              <a:solidFill>
                <a:srgbClr val="ffffff"/>
              </a:solidFill>
              <a:latin typeface="Corbel"/>
            </a:endParaRPr>
          </a:p>
          <a:p>
            <a:pPr marL="582480" indent="-514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If you want to be rich, simply spend your life buying assets. If you want to be poor or middle class, spend your life buying liabilities. </a:t>
            </a:r>
            <a:endParaRPr b="0" lang="en-US" sz="2600" spc="-1" strike="noStrike">
              <a:solidFill>
                <a:srgbClr val="ffffff"/>
              </a:solidFill>
              <a:latin typeface="Corbel"/>
            </a:endParaRPr>
          </a:p>
          <a:p>
            <a:pPr marL="582480" indent="-5140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1eeff"/>
                </a:solidFill>
                <a:latin typeface="comic"/>
              </a:rPr>
              <a:t>Rules for becoming “Rich”</a:t>
            </a:r>
            <a:endParaRPr b="0" lang="en-US" sz="3000" spc="-1" strike="noStrike">
              <a:solidFill>
                <a:srgbClr val="c1eeff"/>
              </a:solidFill>
              <a:latin typeface="Consolas"/>
            </a:endParaRPr>
          </a:p>
        </p:txBody>
      </p:sp>
      <p:sp>
        <p:nvSpPr>
          <p:cNvPr id="382" name=""/>
          <p:cNvSpPr txBox="1"/>
          <p:nvPr/>
        </p:nvSpPr>
        <p:spPr>
          <a:xfrm>
            <a:off x="914400" y="1447560"/>
            <a:ext cx="7772400" cy="5181480"/>
          </a:xfrm>
          <a:prstGeom prst="rect">
            <a:avLst/>
          </a:prstGeom>
          <a:noFill/>
          <a:ln w="0">
            <a:noFill/>
          </a:ln>
        </p:spPr>
        <p:txBody>
          <a:bodyPr lIns="90000" rIns="90000" tIns="46800" bIns="46800" anchor="t">
            <a:normAutofit/>
          </a:bodyPr>
          <a:p>
            <a:pPr marL="582480" indent="-51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Corbel"/>
              </a:rPr>
              <a:t>Concentrate your efforts on buying income-earning assets. </a:t>
            </a:r>
            <a:endParaRPr b="0" lang="en-US" sz="2600" spc="-1" strike="noStrike">
              <a:solidFill>
                <a:srgbClr val="ffffff"/>
              </a:solidFill>
              <a:latin typeface="Corbel"/>
            </a:endParaRPr>
          </a:p>
          <a:p>
            <a:pPr marL="582480" indent="-514080">
              <a:spcBef>
                <a:spcPts val="700"/>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he assets generate more than enough income to cover all the expenses, and with the balance reinvested into the assets it continues to grow. Meaning you get richer!!</a:t>
            </a:r>
            <a:endParaRPr b="0" lang="en-US" sz="2600" spc="-1" strike="noStrike">
              <a:solidFill>
                <a:srgbClr val="ffffff"/>
              </a:solidFill>
              <a:latin typeface="Corbel"/>
            </a:endParaRPr>
          </a:p>
          <a:p>
            <a:pPr marL="582480" indent="-514080">
              <a:spcBef>
                <a:spcPts val="700"/>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Income &gt; Assets &gt; More Income. Which in turn results in low expenses and therefore in low liabilities. </a:t>
            </a:r>
            <a:endParaRPr b="0" lang="en-US" sz="2600" spc="-1" strike="noStrike">
              <a:solidFill>
                <a:srgbClr val="ffffff"/>
              </a:solidFill>
              <a:latin typeface="Corbel"/>
            </a:endParaRPr>
          </a:p>
          <a:p>
            <a:pPr marL="582480" indent="-514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Corbel"/>
              </a:rPr>
              <a:t>Focus on keeping liabilities and expenses at a minimum. </a:t>
            </a:r>
            <a:endParaRPr b="0" lang="en-US" sz="2600" spc="-1" strike="noStrike">
              <a:solidFill>
                <a:srgbClr val="ffffff"/>
              </a:solidFill>
              <a:latin typeface="Corbel"/>
            </a:endParaRPr>
          </a:p>
          <a:p>
            <a:pPr marL="582480" indent="-514080">
              <a:spcBef>
                <a:spcPts val="700"/>
              </a:spcBef>
              <a:buClr>
                <a:srgbClr val="00206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05:56:34Z</dcterms:created>
  <dc:creator>rowshan</dc:creator>
  <dc:description/>
  <dc:language>en-US</dc:language>
  <cp:lastModifiedBy>Info Tech</cp:lastModifiedBy>
  <dcterms:modified xsi:type="dcterms:W3CDTF">2009-03-25T14:51:55Z</dcterms:modified>
  <cp:revision>24</cp:revision>
  <dc:subject/>
  <dc:title>Slide 1</dc:title>
</cp:coreProperties>
</file>